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34B-081A-4995-B312-6C21C75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5BB-0BEA-4F8F-A18E-A9F0CC0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53F-21A3-47ED-970B-EC924F8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393-600E-4268-A327-B8473B83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82CC-E75C-414D-B4CD-2BF99D52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7056-26D4-461B-A641-665627B7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1A4-25C6-4198-A5DF-F475872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BFDB-8B9D-40B3-BAD9-ED61FC87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E5A-D36E-4458-BFAE-E79BA52A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8895-120A-4112-A1A7-CB65A7D9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B04-11E2-40FC-AAA1-5738E00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075-043E-49A2-B651-722AF1A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4DE-1EA2-4C76-8FC7-8DF1E0E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258F-5DD2-4B60-825D-F7612E6E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161-A231-444F-9415-DB713EC7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E230-0DDB-421C-B7D2-1D91E48A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30BE-995D-4FB3-AFF7-622CEF38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C30-E739-436A-843F-59C1B30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278-12B9-4D00-87B8-70AE6223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851-7CFC-4BE7-9C40-0B18F32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A4C-2AA2-4707-92BB-4544859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31F-B3BC-47F6-8EB0-BA6F59C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C7F-303D-41BC-9E05-21005E6D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B4A-B334-4CD6-B32C-2B709A46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D9F-BFC3-4877-96B9-2000D578C6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B06F-771D-42B3-8ABC-CB84D8E39C7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olcano.si.edu/gvp/world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bout Volcano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rs Clu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ening in the earth’s outer layer or crust from which melted rock, called lava, and gases eru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uptions often form a cone or moun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sands of active, inactive, and extinct volcanoes in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,500 active volcanoes have erupted in the last 10,0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ld’s tallest volcanic mountain is Mauna Loa, Hawa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ld’s largest erup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llowst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2 million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destructive modern e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8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Tambora,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90,000 casu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canic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plosivit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I measures magnitude of explosive volcanic eru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e of 0-8 with 8 being the most powerful and 0 being the least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s volume of pyroclastic material, the amount of ash, height of eruption, and duration of explo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I Comparis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werful modern eru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Tambora, Indonesia in 1815 (VEI=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orini, Greece in 1628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akatau, Indonesia in 1883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Maria, Guatemala in 1902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St. Helens, U.S in 1980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suvius, Italy in 79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atubo, Philippines in 1991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es of the World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mithsonian Instit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volcano.si.edu/gvp/worl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es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June 24, 2003, http://vulcan.wr.usgs.gov/Volcanoes/framework.html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 World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niversity of North Dako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http://volcano.und.nodak.edu/vw.html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to Glossary of Volcano Terms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eptember 30, 1999, http://volcanoes.usgs.gov/Products/Pglossary/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20:26:44Z</dcterms:created>
  <dc:creator>Ollie Rivers</dc:creator>
  <dc:description/>
  <dc:language>en-US</dc:language>
  <cp:lastModifiedBy>Daniel O'Mahoney-Schwartz</cp:lastModifiedBy>
  <dcterms:modified xsi:type="dcterms:W3CDTF">2005-02-04T21:39:2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7919282</vt:r8>
  </property>
  <property fmtid="{D5CDD505-2E9C-101B-9397-08002B2CF9AE}" pid="3" name="_AuthorEmail">
    <vt:lpwstr>orivers@earthlink.net</vt:lpwstr>
  </property>
  <property fmtid="{D5CDD505-2E9C-101B-9397-08002B2CF9AE}" pid="4" name="_AuthorEmailDisplayName">
    <vt:lpwstr>Ollie Rivers</vt:lpwstr>
  </property>
  <property fmtid="{D5CDD505-2E9C-101B-9397-08002B2CF9AE}" pid="5" name="_EmailSubject">
    <vt:lpwstr>LWC copyedit/review L7P12 rest of files</vt:lpwstr>
  </property>
</Properties>
</file>